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4160" y="411120"/>
            <a:ext cx="6351480" cy="83329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003400" y="1832040"/>
            <a:ext cx="2931840" cy="3498840"/>
            <a:chOff x="2003400" y="1832040"/>
            <a:chExt cx="2931840" cy="3498840"/>
          </a:xfrm>
        </p:grpSpPr>
        <p:grpSp>
          <p:nvGrpSpPr>
            <p:cNvPr id="40" name=""/>
            <p:cNvGrpSpPr/>
            <p:nvPr/>
          </p:nvGrpSpPr>
          <p:grpSpPr>
            <a:xfrm>
              <a:off x="2003400" y="1832040"/>
              <a:ext cx="2830320" cy="3378240"/>
              <a:chOff x="2003400" y="1832040"/>
              <a:chExt cx="2830320" cy="3378240"/>
            </a:xfrm>
          </p:grpSpPr>
          <p:sp>
            <p:nvSpPr>
              <p:cNvPr id="41" name=""/>
              <p:cNvSpPr/>
              <p:nvPr/>
            </p:nvSpPr>
            <p:spPr>
              <a:xfrm>
                <a:off x="2003400" y="1832040"/>
                <a:ext cx="2830320" cy="337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4467240" y="4017960"/>
                <a:ext cx="333000" cy="495360"/>
                <a:chOff x="4467240" y="4017960"/>
                <a:chExt cx="333000" cy="49536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467240" y="4017960"/>
                  <a:ext cx="333000" cy="4953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467240" y="4017960"/>
                  <a:ext cx="333000" cy="4953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2406240" y="1886040"/>
                <a:ext cx="2061000" cy="282420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406240" y="1886040"/>
                <a:ext cx="2075040" cy="284004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058840" y="4346640"/>
                <a:ext cx="2738160" cy="839880"/>
                <a:chOff x="2058840" y="4346640"/>
                <a:chExt cx="2738160" cy="83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058840" y="4346640"/>
                  <a:ext cx="2738160" cy="83988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058840" y="4346640"/>
                  <a:ext cx="2738160" cy="83988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058840" y="4017960"/>
                <a:ext cx="328320" cy="495360"/>
                <a:chOff x="2058840" y="4017960"/>
                <a:chExt cx="328320" cy="4953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058840" y="4017960"/>
                  <a:ext cx="328320" cy="4953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058840" y="4017960"/>
                  <a:ext cx="328320" cy="4953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2685600" y="2254320"/>
                <a:ext cx="333000" cy="51264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85600" y="2254320"/>
                <a:ext cx="348840" cy="52704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46200" y="2021040"/>
                <a:ext cx="128160" cy="17280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46200" y="2021040"/>
                <a:ext cx="144000" cy="19044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45920" y="2131920"/>
                <a:ext cx="274320" cy="31752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545920" y="2131920"/>
                <a:ext cx="287280" cy="33516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940840" y="3433680"/>
                <a:ext cx="953640" cy="598680"/>
                <a:chOff x="2940840" y="3433680"/>
                <a:chExt cx="953640" cy="5986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940840" y="3433680"/>
                  <a:ext cx="953640" cy="59868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940840" y="3433680"/>
                  <a:ext cx="953640" cy="59868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413880" y="3568680"/>
                <a:ext cx="1080" cy="44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8840" y="3884760"/>
                <a:ext cx="7534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91640" y="3516480"/>
                <a:ext cx="132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705480" y="2660760"/>
                <a:ext cx="447480" cy="1033200"/>
                <a:chOff x="3705480" y="2660760"/>
                <a:chExt cx="447480" cy="10332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05480" y="2660760"/>
                  <a:ext cx="447480" cy="10332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05480" y="2660760"/>
                  <a:ext cx="447480" cy="10332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4042080" y="3110040"/>
                <a:ext cx="97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29480" y="2725560"/>
                <a:ext cx="266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830760" y="3513240"/>
                <a:ext cx="274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923560" y="2217600"/>
                <a:ext cx="904320" cy="595440"/>
                <a:chOff x="2923560" y="2217600"/>
                <a:chExt cx="904320" cy="595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923560" y="2217600"/>
                  <a:ext cx="904320" cy="59544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923560" y="2217600"/>
                  <a:ext cx="904320" cy="59544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3413880" y="2200320"/>
                <a:ext cx="1080" cy="48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15720" y="2390760"/>
                <a:ext cx="7833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59720" y="2714760"/>
                <a:ext cx="171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685600" y="2597040"/>
                <a:ext cx="429840" cy="1094040"/>
                <a:chOff x="2685600" y="2597040"/>
                <a:chExt cx="429840" cy="10940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85600" y="2597040"/>
                  <a:ext cx="429840" cy="109404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85600" y="2597040"/>
                  <a:ext cx="429840" cy="109404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2670840" y="3110040"/>
                <a:ext cx="171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85320" y="2725560"/>
                <a:ext cx="1458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737800" y="3503520"/>
                <a:ext cx="2426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92040" y="4626000"/>
                <a:ext cx="112320" cy="13824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4200" y="4683240"/>
                <a:ext cx="128160" cy="14436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482560" y="4743360"/>
                <a:ext cx="104400" cy="14616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10720" y="4799160"/>
                <a:ext cx="10440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766240" y="4819680"/>
                <a:ext cx="96480" cy="13824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01240" y="4851360"/>
                <a:ext cx="96480" cy="13500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25080" y="4869000"/>
                <a:ext cx="123480" cy="14436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4846680"/>
                <a:ext cx="107640" cy="13968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93200" y="4881600"/>
                <a:ext cx="110520" cy="13968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07320" y="4903920"/>
                <a:ext cx="110880" cy="13644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21520" y="4913280"/>
                <a:ext cx="123480" cy="13824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66240" y="4881600"/>
                <a:ext cx="102600" cy="13968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33200" y="2649600"/>
                <a:ext cx="1155960" cy="88092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89520" y="4822920"/>
                <a:ext cx="102960" cy="14904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23080" y="4808520"/>
                <a:ext cx="97920" cy="13968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4200" y="4767120"/>
                <a:ext cx="109080" cy="13968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86240" y="4726080"/>
                <a:ext cx="124920" cy="13968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33840" y="4664160"/>
                <a:ext cx="102600" cy="13788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33200" y="2649600"/>
                <a:ext cx="1171800" cy="89856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99720" y="2425680"/>
                <a:ext cx="407520" cy="46692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9720" y="2425680"/>
                <a:ext cx="425160" cy="48276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1240" y="2055960"/>
                <a:ext cx="643680" cy="89532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31240" y="2055960"/>
                <a:ext cx="654840" cy="91260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80560" y="3344760"/>
                <a:ext cx="805680" cy="89388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80560" y="3344760"/>
                <a:ext cx="819720" cy="91296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86960" y="3327480"/>
                <a:ext cx="740520" cy="98748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86960" y="3327480"/>
                <a:ext cx="758160" cy="100656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833200" y="3086280"/>
                <a:ext cx="1171800" cy="39600"/>
                <a:chOff x="2833200" y="3086280"/>
                <a:chExt cx="1171800" cy="39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33200" y="3086280"/>
                  <a:ext cx="1171800" cy="3960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33200" y="3086280"/>
                  <a:ext cx="1171800" cy="3960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408840" y="2652840"/>
                <a:ext cx="20520" cy="901440"/>
                <a:chOff x="3408840" y="2652840"/>
                <a:chExt cx="20520" cy="901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08840" y="2652840"/>
                  <a:ext cx="20520" cy="90144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08840" y="2652840"/>
                  <a:ext cx="20520" cy="90144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429720" y="2666880"/>
                <a:ext cx="548640" cy="419400"/>
                <a:chOff x="3429720" y="2666880"/>
                <a:chExt cx="548640" cy="4194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429720" y="2666880"/>
                  <a:ext cx="548640" cy="4194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429720" y="2666880"/>
                  <a:ext cx="548640" cy="4194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860200" y="2666880"/>
                <a:ext cx="550440" cy="419400"/>
                <a:chOff x="2860200" y="2666880"/>
                <a:chExt cx="550440" cy="4194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860200" y="2666880"/>
                  <a:ext cx="550440" cy="4194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60200" y="2666880"/>
                  <a:ext cx="550440" cy="4194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860200" y="3125880"/>
                <a:ext cx="550440" cy="419040"/>
                <a:chOff x="2860200" y="3125880"/>
                <a:chExt cx="550440" cy="4190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60200" y="3125880"/>
                  <a:ext cx="550440" cy="41904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0200" y="3125880"/>
                  <a:ext cx="550440" cy="41904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429720" y="3125880"/>
                <a:ext cx="542520" cy="419040"/>
                <a:chOff x="3429720" y="3125880"/>
                <a:chExt cx="542520" cy="419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429720" y="3125880"/>
                  <a:ext cx="542520" cy="4190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29720" y="3125880"/>
                  <a:ext cx="542520" cy="4190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3029760" y="2774520"/>
                <a:ext cx="358560" cy="3207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155040" y="2863440"/>
                <a:ext cx="236160" cy="235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282120" y="2975040"/>
                <a:ext cx="105840" cy="123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388320" y="3047760"/>
                <a:ext cx="1080" cy="507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416760" y="2763360"/>
                <a:ext cx="414000" cy="327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416400" y="2860200"/>
                <a:ext cx="285480" cy="235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416760" y="2971800"/>
                <a:ext cx="163440" cy="123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416760" y="3044520"/>
                <a:ext cx="48960" cy="507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18560" y="3143160"/>
                <a:ext cx="415440" cy="270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18560" y="3143160"/>
                <a:ext cx="298080" cy="179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418200" y="3143160"/>
                <a:ext cx="164520" cy="69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418200" y="3129120"/>
                <a:ext cx="53640" cy="10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29760" y="3143160"/>
                <a:ext cx="358560" cy="270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55040" y="3143160"/>
                <a:ext cx="236160" cy="179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2120" y="3143160"/>
                <a:ext cx="105840" cy="69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8320" y="3129120"/>
                <a:ext cx="1080" cy="18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835520" y="5110200"/>
              <a:ext cx="40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5520" y="5119560"/>
              <a:ext cx="997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35160" y="512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98760" y="603360"/>
            <a:ext cx="35924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0560" y="66204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0560" y="674640"/>
            <a:ext cx="3551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30880" y="687240"/>
            <a:ext cx="339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9240" y="1027080"/>
            <a:ext cx="27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9240" y="1039680"/>
            <a:ext cx="2892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8480" y="1052640"/>
            <a:ext cx="274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080" y="5403960"/>
            <a:ext cx="429264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760" y="5462640"/>
            <a:ext cx="55641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4760" y="5472000"/>
            <a:ext cx="56671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4200" y="5481720"/>
            <a:ext cx="461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98680" y="5746680"/>
            <a:ext cx="238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97960" y="5756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7200" y="5746680"/>
            <a:ext cx="903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5746680"/>
            <a:ext cx="5922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8280" y="5756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7760" y="6021360"/>
            <a:ext cx="4454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87680" y="6031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7320" y="5827680"/>
            <a:ext cx="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13000" y="6554880"/>
            <a:ext cx="4221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6564240"/>
            <a:ext cx="4303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880" y="6573960"/>
            <a:ext cx="588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DMO-RC MASTER MILITARY PAY ACC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M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9560" y="6838920"/>
            <a:ext cx="26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55680" y="7331040"/>
            <a:ext cx="2539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AL 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9360" y="6829560"/>
            <a:ext cx="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3480" y="7104240"/>
            <a:ext cx="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57480" y="7650000"/>
            <a:ext cx="2730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57480" y="7656480"/>
            <a:ext cx="28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61000" y="7662960"/>
            <a:ext cx="274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or Classroom Purposes Only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1200" y="842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83320" y="8427960"/>
            <a:ext cx="89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16520" y="250920"/>
            <a:ext cx="2423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C MMPA PRACTICAL EXERC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5160" y="758880"/>
            <a:ext cx="6189480" cy="44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following questions should be answered based on information in DSIS Reserve Pay Hand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okle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following questions, write the answer in the first blank and the field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re you found the answer in the second blank.  Refer to the attached MMPA printouts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ermine your answ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the Effective date of SFC Adams current Grad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98121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DG-CUR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component is SFC Adam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USAR (Reserve)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COMP = V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SFC Adams Paydat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90040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AY-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type of BAS is SFC Adams receiving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N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S 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did SFC Adams BAH II star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96010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H II-STAT-D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8485200"/>
            <a:ext cx="16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1760" y="5334120"/>
            <a:ext cx="43239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type of Incentive Pay is SFC Adams receiving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C-Parachu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P-TY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did SFC Adams Foreign Duty Pay Stop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99073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DP-STO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. When did his Incentive Pay Star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96101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P-START-D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2640" y="766800"/>
            <a:ext cx="6058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.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was this soldier commissioned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000000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OFFICERS-SVC-D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did SFC Adams’ Family Separation Allowance Star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980731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FSAII-ST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following questions refer to the Reserve Pay Handout #1.  Find the appropriate answ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other than electronic funds transfer (EFT), what does a soldier need in order to rece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 to addres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A soldier must have a command approved waiver to not participate in the EFT 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the medical personnel code that shows over 10 years of dental servic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DVO-TYPE E = 10yrs dental service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re does the code show if a soldier is a student at that tim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tudent IND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long does a soldier stay on the Finance Master File after date of Separation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6 months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.What do the TINS in the reserve pay system represen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hese are the transactions that are input to effect a soldier’s accou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. In regards to the inputting of transactions, what does the second “G” represent in Gain Ind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It means that the TIN A06 has been process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. What field needs to be completed if the BAH-TYPE is C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BAH II DOB PD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he date of birth of youngest 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8485200"/>
            <a:ext cx="16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7T08:50:46Z</dcterms:created>
  <dc:creator>Soldier Support Institute</dc:creator>
  <dc:description/>
  <dc:language>en-US</dc:language>
  <cp:lastModifiedBy>Administrator</cp:lastModifiedBy>
  <cp:lastPrinted>2001-12-21T15:50:14Z</cp:lastPrinted>
  <dcterms:modified xsi:type="dcterms:W3CDTF">2005-01-18T15:55:36Z</dcterms:modified>
  <cp:revision>30</cp:revision>
  <dc:subject/>
  <dc:title>mmpa</dc:title>
</cp:coreProperties>
</file>